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4354-7F9F-47B0-86ED-DCFF65E9B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F6A9-8B4F-43E2-9AFF-C8BFADB0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B787-5F1A-4360-8793-EFC662C02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9F30-0BCA-4356-AE16-8EDC1ACF1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987E-4660-4450-B0AF-34A3D021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EE4D-3B5A-4F7B-BBBD-D170D5AD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244D-4BD0-4A40-B9D3-9072A1E5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8A44-5FD4-457A-9952-30199A8F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D01F-680A-44F7-BFE5-0FD96B8C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D424-1B1F-4173-B425-8B50FCB0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E517-B76D-4AF0-A3CB-ACCAAE28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FA8A-91DE-42CD-B570-995005B6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C74D-BFB3-49E8-AC5F-736323D54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feety"/>
          <p:cNvPicPr/>
          <p:nvPr/>
        </p:nvPicPr>
        <p:blipFill>
          <a:blip r:embed="rId1"/>
          <a:stretch/>
        </p:blipFill>
        <p:spPr>
          <a:xfrm>
            <a:off x="5105520" y="7391520"/>
            <a:ext cx="1752480" cy="90936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5"/>
          <p:cNvSpPr/>
          <p:nvPr/>
        </p:nvSpPr>
        <p:spPr>
          <a:xfrm rot="16200000">
            <a:off x="323640" y="6305040"/>
            <a:ext cx="685800" cy="571680"/>
          </a:xfrm>
          <a:prstGeom prst="flowChartExtra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feet"/>
          <p:cNvPicPr/>
          <p:nvPr/>
        </p:nvPicPr>
        <p:blipFill>
          <a:blip r:embed="rId2"/>
          <a:stretch/>
        </p:blipFill>
        <p:spPr>
          <a:xfrm>
            <a:off x="5105520" y="8240760"/>
            <a:ext cx="1752480" cy="90324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7"/>
          <p:cNvGrpSpPr/>
          <p:nvPr/>
        </p:nvGrpSpPr>
        <p:grpSpPr>
          <a:xfrm>
            <a:off x="-157680" y="6978600"/>
            <a:ext cx="2686680" cy="2165400"/>
            <a:chOff x="-157680" y="6978600"/>
            <a:chExt cx="2686680" cy="2165400"/>
          </a:xfrm>
        </p:grpSpPr>
        <p:grpSp>
          <p:nvGrpSpPr>
            <p:cNvPr id="45" name="Group 8"/>
            <p:cNvGrpSpPr/>
            <p:nvPr/>
          </p:nvGrpSpPr>
          <p:grpSpPr>
            <a:xfrm>
              <a:off x="-157680" y="6978600"/>
              <a:ext cx="2686680" cy="2121120"/>
              <a:chOff x="-157680" y="6978600"/>
              <a:chExt cx="2686680" cy="2121120"/>
            </a:xfrm>
          </p:grpSpPr>
          <p:pic>
            <p:nvPicPr>
              <p:cNvPr id="46" name="Picture 9" descr="wing2"/>
              <p:cNvPicPr/>
              <p:nvPr/>
            </p:nvPicPr>
            <p:blipFill>
              <a:blip r:embed="rId3"/>
              <a:stretch/>
            </p:blipFill>
            <p:spPr>
              <a:xfrm rot="20611200">
                <a:off x="1632240" y="7087320"/>
                <a:ext cx="631080" cy="196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Picture 10" descr="wing"/>
              <p:cNvPicPr/>
              <p:nvPr/>
            </p:nvPicPr>
            <p:blipFill>
              <a:blip r:embed="rId4"/>
              <a:stretch/>
            </p:blipFill>
            <p:spPr>
              <a:xfrm rot="1504200">
                <a:off x="228600" y="7019640"/>
                <a:ext cx="631440" cy="1963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8" name="Picture 11" descr="body1"/>
            <p:cNvPicPr/>
            <p:nvPr/>
          </p:nvPicPr>
          <p:blipFill>
            <a:blip r:embed="rId5"/>
            <a:stretch/>
          </p:blipFill>
          <p:spPr>
            <a:xfrm>
              <a:off x="613440" y="7121520"/>
              <a:ext cx="1276920" cy="202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" name="Group 12"/>
          <p:cNvGrpSpPr/>
          <p:nvPr/>
        </p:nvGrpSpPr>
        <p:grpSpPr>
          <a:xfrm>
            <a:off x="2294640" y="7044480"/>
            <a:ext cx="2625480" cy="2099520"/>
            <a:chOff x="2294640" y="7044480"/>
            <a:chExt cx="2625480" cy="2099520"/>
          </a:xfrm>
        </p:grpSpPr>
        <p:grpSp>
          <p:nvGrpSpPr>
            <p:cNvPr id="50" name="Group 13"/>
            <p:cNvGrpSpPr/>
            <p:nvPr/>
          </p:nvGrpSpPr>
          <p:grpSpPr>
            <a:xfrm>
              <a:off x="2294640" y="7044480"/>
              <a:ext cx="2625480" cy="2099520"/>
              <a:chOff x="2294640" y="7044480"/>
              <a:chExt cx="2625480" cy="2099520"/>
            </a:xfrm>
          </p:grpSpPr>
          <p:pic>
            <p:nvPicPr>
              <p:cNvPr id="51" name="Picture 14" descr="body"/>
              <p:cNvPicPr/>
              <p:nvPr/>
            </p:nvPicPr>
            <p:blipFill>
              <a:blip r:embed="rId6"/>
              <a:stretch/>
            </p:blipFill>
            <p:spPr>
              <a:xfrm rot="5400000">
                <a:off x="2694240" y="7534440"/>
                <a:ext cx="1959480" cy="1259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2" name="Group 15"/>
              <p:cNvGrpSpPr/>
              <p:nvPr/>
            </p:nvGrpSpPr>
            <p:grpSpPr>
              <a:xfrm>
                <a:off x="2294640" y="7044480"/>
                <a:ext cx="2625480" cy="2050560"/>
                <a:chOff x="2294640" y="7044480"/>
                <a:chExt cx="2625480" cy="2050560"/>
              </a:xfrm>
            </p:grpSpPr>
            <p:pic>
              <p:nvPicPr>
                <p:cNvPr id="53" name="Picture 16" descr="wing2"/>
                <p:cNvPicPr/>
                <p:nvPr/>
              </p:nvPicPr>
              <p:blipFill>
                <a:blip r:embed="rId7"/>
                <a:stretch/>
              </p:blipFill>
              <p:spPr>
                <a:xfrm rot="20611200">
                  <a:off x="4044600" y="7151400"/>
                  <a:ext cx="619560" cy="1894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" name="Picture 17" descr="wing"/>
                <p:cNvPicPr/>
                <p:nvPr/>
              </p:nvPicPr>
              <p:blipFill>
                <a:blip r:embed="rId8"/>
                <a:stretch/>
              </p:blipFill>
              <p:spPr>
                <a:xfrm rot="1504200">
                  <a:off x="2666880" y="7086240"/>
                  <a:ext cx="619560" cy="1894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5" name="AutoShape 18"/>
            <p:cNvSpPr/>
            <p:nvPr/>
          </p:nvSpPr>
          <p:spPr>
            <a:xfrm>
              <a:off x="3233520" y="7674480"/>
              <a:ext cx="849960" cy="979560"/>
            </a:xfrm>
            <a:custGeom>
              <a:avLst/>
              <a:gdLst>
                <a:gd name="textAreaLeft" fmla="*/ 198360 w 849960"/>
                <a:gd name="textAreaRight" fmla="*/ 651600 w 849960"/>
                <a:gd name="textAreaTop" fmla="*/ 103320 h 979560"/>
                <a:gd name="textAreaBottom" fmla="*/ 620280 h 9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Oval 19"/>
          <p:cNvSpPr/>
          <p:nvPr/>
        </p:nvSpPr>
        <p:spPr>
          <a:xfrm>
            <a:off x="4343400" y="6019920"/>
            <a:ext cx="1143000" cy="1143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0"/>
          <p:cNvSpPr/>
          <p:nvPr/>
        </p:nvSpPr>
        <p:spPr>
          <a:xfrm rot="16200000">
            <a:off x="1085760" y="6305040"/>
            <a:ext cx="685800" cy="571680"/>
          </a:xfrm>
          <a:prstGeom prst="flowChartExtra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1"/>
          <p:cNvSpPr/>
          <p:nvPr/>
        </p:nvSpPr>
        <p:spPr>
          <a:xfrm>
            <a:off x="5638680" y="5867280"/>
            <a:ext cx="914400" cy="1371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2" descr="eyeg"/>
          <p:cNvPicPr/>
          <p:nvPr/>
        </p:nvPicPr>
        <p:blipFill>
          <a:blip r:embed="rId9"/>
          <a:stretch/>
        </p:blipFill>
        <p:spPr>
          <a:xfrm>
            <a:off x="2666880" y="6324480"/>
            <a:ext cx="571680" cy="560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3" descr="eyeb"/>
          <p:cNvPicPr/>
          <p:nvPr/>
        </p:nvPicPr>
        <p:blipFill>
          <a:blip r:embed="rId10"/>
          <a:stretch/>
        </p:blipFill>
        <p:spPr>
          <a:xfrm>
            <a:off x="3352680" y="6324480"/>
            <a:ext cx="571680" cy="560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4" descr="glyphheader"/>
          <p:cNvPicPr/>
          <p:nvPr/>
        </p:nvPicPr>
        <p:blipFill>
          <a:blip r:embed="rId11"/>
          <a:stretch/>
        </p:blipFill>
        <p:spPr>
          <a:xfrm>
            <a:off x="1295280" y="0"/>
            <a:ext cx="4295880" cy="10000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6"/>
          <p:cNvSpPr/>
          <p:nvPr/>
        </p:nvSpPr>
        <p:spPr>
          <a:xfrm>
            <a:off x="762120" y="1066680"/>
            <a:ext cx="5257800" cy="472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914400" y="52578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8:45:32Z</dcterms:created>
  <dc:creator>MCSB</dc:creator>
  <dc:description/>
  <dc:language>en-US</dc:language>
  <cp:lastModifiedBy>Meadows Elementary</cp:lastModifiedBy>
  <dcterms:modified xsi:type="dcterms:W3CDTF">2012-01-06T14:46:13Z</dcterms:modified>
  <cp:revision>4</cp:revision>
  <dc:subject/>
  <dc:title>Slide 1</dc:title>
</cp:coreProperties>
</file>